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459-1A57-4986-869E-D827B6D5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C56-8490-4039-BA29-1F31D963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738EA-E506-4E69-8014-597B32EC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86B0D-94CE-4D6B-A0BC-CFC4947E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B8289-B047-4578-BB25-46F5D607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976AF-2131-4BB6-9B7D-0D33522F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383EE-9F25-4008-A6C4-A0817938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A98B6-AD0D-48B3-9E0B-C1047815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37D52-042C-414B-A7E7-9AE2D5A0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EA8DC-687E-4339-92E3-FE7D6332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83BDC-7343-4D12-B17E-4DBD9995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2F740-B821-41E7-A586-77C57DA4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76C-9011-4FA7-8A42-69C4D4F1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74ADE-59BF-47AB-B1DC-3361E0E1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EA94B-99A8-4D14-86EF-106EE450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2392C-E2B2-440A-9499-7A03B528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EB88B-AF7E-4365-AFAC-D86EC091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03EA8-810D-490C-A67F-669D8EEC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DE326-9427-4EA9-93CD-63B4834E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70622-A627-4EDF-9B2A-4AB2549A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1793D-D15D-460E-9641-FE9A9F41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D28C4-18B5-49A9-B2E0-4982E1AE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BA0E1-8055-4BE1-99FD-CA247639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026-128E-44A6-B21A-932B9C7E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4E5AC-1BF6-47BE-98BC-7A20DF56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D41B9-3170-4C12-9A91-8574488D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F2482-E4A4-4A5B-8448-8BB0EA6B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EF5B1-951C-4CE7-AA6C-DF164CAF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C290C-58DE-4CA1-B194-A75954A5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3D3D1-93E2-4893-813F-FE88FF50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BD9DA-CDF5-4F01-9DA0-E4C94A2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21F95-4844-455A-B90A-B5A8F880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B91CF-4CFD-44D6-A7BC-6891D497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2735B-CCC5-43F4-BE4A-3373F1B2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B7EF-3709-44EA-95E3-7CC459C1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64A2C-E9DE-4643-9901-F7B9B1D0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E9B52-453D-4060-B86C-5ECCDCB5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1B698-AA75-4A7F-822F-2D2734CC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E5396-EE09-4F74-B9E0-876224B2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9E1CC-8F2F-4D82-9799-AB79F2C4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1A70D-D568-49D6-900F-FA598719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3A835-6D62-491C-B96F-DBB6F8F8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3D2FC-2BD3-4868-AB97-9A3EE187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10557-E78E-4CC2-B362-954D4026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E597A-FEC4-473C-8546-BDC14308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30C6-8CA4-4C8F-97AE-E965EE20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1FC2D-3DF8-4A15-BF86-B89B139E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3B2C3-6D13-4F59-873D-BC42A3CD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A97BE-25C5-4E8E-AB6C-814BEA53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91ECF-A77C-4954-99B5-E3660D61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5C825-41C1-41C0-96B6-B64DFB9F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EC91B-E852-4695-893A-F2F3D728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6891B-26B9-40F4-A669-92AB1B71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446D1-3A19-4FFD-993A-989DC1C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A1661-2201-4D63-BC34-44EBEDDF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35C15-3ADB-4656-A7F4-5339DBC4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5D63-FB33-407C-A2B4-B5C91D11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75351-5706-4C32-A8D4-BF410DFA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B5A10-F9E5-48F0-B1B6-D9B2AD3F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5A098-676A-46C3-A645-EB9F51A5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A9884-2265-4C6B-99D8-2503AC04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AACFF-A40A-4408-97A7-02E9F72A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F6EAB-22BB-4DD4-AE56-C353BEC0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09154-3CC3-49C6-B2E8-50A80782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BBBC5-6F2D-4B07-AA4B-2A0467F8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EB459-8D19-4087-9C3A-0AA7D10D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8818C-372B-48FD-84B0-72C02F39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2AC6-E23A-4034-A22A-5B90AF54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2B3FD-3266-4C65-896A-106374E8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F4561-BD95-4729-8E9F-484C0564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49815-1A73-46C9-B2A9-B1A3924B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6FC15-8520-4FAB-B743-AAA3D6C8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7E428-7F28-49CF-B6DD-A100EA8F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B8135-35DB-464E-BD02-1C93CDF4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66013-65A2-4555-BAD7-E7C8B48D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60B8D-45B0-4104-9430-D2E445CE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A6886-C224-477F-8E8B-DA0049C0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300E1D-9A22-4510-8B62-EE67A82C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EDE4-CE21-448E-B690-5966CA12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2780F2-0060-45A3-B5DB-6E9BF158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3A51B-813F-4A80-A2BE-8A38FB31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F2094-58E2-40ED-82D0-C9FED1BE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0203FD-AB21-420B-86C1-EFEE6158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8421D-CCB2-47E2-8450-853831B0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F17CE-DB52-4BBA-BBFA-8F032AFD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8FC89-7373-46D8-B1B8-47EF1DCF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1BDA4-24B9-4449-A909-3BB9BFA1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9C4B4-3499-4FCA-A33C-02B0A9FB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013BA-52A0-4320-8DE9-AED0D9B0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6FD7-89CB-407B-B1E8-8F78C000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B262B-0527-41BD-8836-42F95769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D59BF-0B7F-46FB-9D30-2F487529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D300E-7887-4453-AC34-B04B1F48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64C4C-30A8-4990-A8A8-0D351D7B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395C8-F227-49AC-9DFC-190F0FAD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4B2BD-96F1-4D07-A277-05B11D43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6DA1A3-7D2C-4847-A75B-0BBF78A5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E906F-D85A-467E-84DA-8FE05731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1847CF-586D-4B8F-A63A-278B6648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A1430-0C31-4634-9C56-4643A70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931A-5609-4C0A-9C7B-4748B03D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CFB0E-FE83-4D17-A2D4-297BAC4A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B2BF34-7A21-4D04-8B86-5E3599A6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3D394-4AFB-40E8-90EB-CC1F91BF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74BF9-1CAF-43EF-9ED3-4820B261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1B1DC-1B16-4574-AD48-10909819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396BE2-70D6-4C25-92F7-A74FC27D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84E55-370E-48C7-A579-798FB952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DBC61-BE52-42F6-8898-3BB95430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204F1-97E9-4B9B-8BE0-F260F446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44B09-BDFD-4C6B-857C-3B7AB44B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827-6287-4B78-8903-62A56E61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C10B-197E-4426-9301-59685EA0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903AB-9A85-4244-84CD-FCB17FC3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5035B-743E-4239-8997-AC4A3E37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A79673-1C53-42EA-9ECB-E7FF48FC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4020DC-6A47-4E68-9A30-1B14E366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03844E-59BB-4A37-A527-61CBDCC7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A82B12-2570-4144-A7EA-F2285774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81B6A-ED06-442D-9E94-E86D0F1A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F2499A-D9B4-4351-9B20-3DCF3C86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024B4-B219-4176-A049-FF46E06C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CF3FF1-CE6F-4A79-BB41-2C9CF4CB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DA33-0715-4621-8C6B-E25A8E54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A0C84-CD3A-4C36-B5EF-0030FF7B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E5C9A-2718-4D29-BD72-211C5C97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BD380-C6E5-4154-8AAF-4E0A4821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A2769-24B0-49BD-9FCE-16214B28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6622C9-74B9-48CC-9F84-3F6A3B7D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695E4-FDB6-4A61-A06B-0902C609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F9943-904F-4F88-B8E8-70029FC1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2FB07-3EC2-4A74-85C3-6F2BA8E5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876AF5-84F4-429F-A43D-EDF45555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A543FB-AA5A-400D-9363-535C259F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397B-5B1A-41FD-A170-2BADD166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88046-073B-4FBB-B132-699E030C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6C623-7BC8-4E65-A5E4-B640DEE0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0F6DC-0249-4245-B84C-C5995B4E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1B94E6-9488-499B-B9D9-5028ED72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A091C-CE4F-40A9-8DA8-FB274184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8AE4DF-93B9-40FE-81BC-6ABF98FC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1B553-359E-4745-A085-4EBC1D3B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761779-5CF1-40D1-9546-5CF82D24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0530B6-51B7-4123-A5C8-B3695D98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765CD5-F299-4301-9585-A253B177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980F-F35D-421B-A7DB-2A06E70E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E2F380-4D3D-405F-A852-7B90C3E7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D96D7F-8683-49C4-95FA-8A93536F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4CFD56-938F-4AB7-8282-7C7DC78E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EFE6A6-93B1-48F7-AA99-852D78C9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480F58-878C-4E6D-99F3-47CF1023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C01891-961C-4134-9971-EF72CF3B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3B0312-C0C7-4936-99DD-BE01AE92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C050A-0283-4A3C-AA6F-0176A77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7F4A1E-D9B1-4447-B4D7-B8178ED3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66D80B-B827-4AE1-B562-C0825BA6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D948-6FD2-4046-A7C1-1113F9C3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89DF17-B8DF-441F-AD2D-BE7ED121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3856A-971A-48C4-9451-FF15DEC8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DC9CE2-56F1-414C-B4B7-A67752C7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5D771D-3113-4473-9141-0C7AB3BA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E98C70-51DA-4A62-8E8E-C5AFF7EB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C6B509-A9EE-4F3D-B449-6A91C8FF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35B905-DFEE-4324-BF05-D4B262C2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DF273-240A-4092-B061-5A3472D2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7FADCD-0561-45C7-B0C0-760F031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78BC1B-8C45-4DC4-A451-70FF516D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CBDF-D16D-41E2-900E-0AACD375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BFFE3C-85B4-4149-B8C9-502634E7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233791-C7EE-4E67-A454-DEEFEA2F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9A1333-A005-4414-AF12-15618A2D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09B8-EC03-4CF9-89EB-F56309FD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A77A-2A12-41DE-B576-C9C5F9E7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1F2A-8F67-47A1-BE26-171E8AD9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CB19-C4B8-407B-9229-A427D313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744-089E-4455-99F8-AD122323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0E9B-E206-44B4-AB82-61C441C3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7220-5CA7-42E6-AFE3-58FA6539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359E0-EC84-43AF-8F5C-939FF567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03C00-97F4-478A-949A-5630EE4F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4C83C-DBDD-4260-8E3A-6130B4E9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B13D-B336-4BF5-B181-09AC2A87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35BC-211B-448D-8BB0-49D251DE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3FC3-A267-4B8B-8BC7-4B16916A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50E40-5A1D-496E-AFC1-FDFE8716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42AB6-E79E-433B-A15C-4FF6DBA3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AAD-0CA6-4075-A5D2-11FDDAAA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BC813-E119-43B5-A545-793C5212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E969C-2EA8-45DD-8327-DC3748FA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8F9DA-7918-4E5A-BF96-CE7B05D0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391DE-2CCA-4E90-B4C8-F0D578B7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B290D-E1A7-4ED2-8C45-CCE5B0B1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83622-41FD-4E7B-A8B7-57174625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1C70E-C100-4B22-BF30-62D955EF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06E92-88AA-4501-8E3E-0D742AD2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AAB7C-01A7-46D3-9191-F7FEFC04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5998A-CDF7-412D-AD52-9389CCA2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B32-84FF-419D-AAB9-E6B22F14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0C811-1555-4A48-B9D9-9C0E9A8B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3282B-66BD-4A9F-B01B-3CBDFC39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07FAC-A1D2-4F68-AFE5-5DC436A7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0BD9C-BB42-435E-93B5-A4940E55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450B2-4655-443D-B325-93065E1C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CC8D2-67CA-4F8D-A748-0D092A9D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E9293-26B5-47B5-8951-2D3AB97E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A23DE-D12A-491F-B834-18E8FCDA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F82D0-8C45-43B5-868F-E0E8C467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84C90-B7EA-4688-B3B4-D4E6A9E4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68A-46D9-422A-91E7-43AC13E5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4CE0-C947-4E0F-8CC4-6C2B324A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9113B-A1E9-4BDC-B911-38A19A87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06869-BD9B-4346-9EE9-0260C52F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FC83C-6BBC-4D78-B21D-A8AA7730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FB48A-9AA6-4BD9-B895-9E74131C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8279E-67FE-4DB7-A749-7E737A3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AC515-CE55-49EE-9ABD-45F78567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08C31-6943-4CD1-ABF5-7885896A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DDF4D-16E3-43B8-BB79-D73CB0F2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3C9BB-725E-483F-BA3C-A0F8BC2D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7B2-7FDD-4FA7-B2C3-5A4E6F4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D4D28-AADB-4C6F-80A8-92ACB16F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F34FB-44FF-47DD-9056-BD0C0F1C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20466-6B73-4CDC-BB38-ECE0EF9E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D5164-1330-47F1-A1B3-6C4F1A0C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C24CF-A008-4D48-A459-CAC3049D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D41E0-00CC-405E-8434-950509F6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1F026-84A5-4B30-93F5-F2513E40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313A9-3719-4320-9262-49B9906A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CEC37-2BB3-4E10-8617-89781798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A3342-CA01-4CB7-A95D-216E7EEB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C22-E825-4410-8BC7-E77DA0A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FC1C9-10C8-4AAE-9BF1-5DE5424D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3DBC6-6CAC-477A-8478-3482003E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95BD7-3A86-4E32-9577-A998E087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3289F-18D1-40DA-B1B9-43A2291D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44789-248C-482A-864B-04BE7F69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E1A26-B448-4902-8468-DB66718D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420B1-6E27-4EB6-9E5B-84152E97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ED5D0-813A-4EA4-AC4E-507317F6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1BF1E-82FD-40C1-BB48-F3A295CB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D32D5-D52C-4B5D-B0AE-7400F17C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DB9-32AA-460C-A7AE-21403255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1736D-0C26-464F-82AA-7E736C0C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70870-B57F-451B-AA6B-0500C05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1A605-0552-45F2-B10E-FFF44D4D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30206-79A4-456E-AA3D-6187CC34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611EF-E913-4565-86E2-AFBB4BD8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3C82E-5191-48EB-8A65-257512E6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11C42-613C-478A-8CAC-7B28F70A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601B8-31F6-4691-9521-B6AD2C14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27A91-16B6-4A38-ACEC-26CDC4DC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B0DC2-CF3C-45D4-A407-3C1FB44B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D3BB-966F-43EB-A052-26FBA4C4E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CF39-8A5D-4243-9A40-E049EF28D4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572D-39E7-4ADC-A319-9491F3163E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FC52-A047-410D-B530-D10619A8AE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6872-9DB4-43BC-8800-D059570774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A333-E36D-4E7B-A1BC-756B99F32D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09AB-13B0-46A8-8EFD-662EFA905E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E014-FC0D-4E0A-A329-055159C77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47B4-6940-4376-BB52-D46D44BA89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ADF8-A7A5-463E-B1D9-B26E6AA174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BC0F-1FA4-49CB-A274-1654524E78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0628-1E34-4280-A116-87E9C1E799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F07D-EE17-4A3A-BD68-39BB9BA066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1812-EE5B-40BE-B958-80F9CCF7BE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9A2B-1C8B-4B2C-B99C-05BE478353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8855-65A0-4131-9ABE-48B907D7F5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345C-E9D3-4538-8D47-44F012CDDB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E51B-FE72-4C65-BE2A-4C2D776FA4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2EC-20BA-45B4-83F7-669E4525D5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59D0-2D7F-48AF-91A5-80EB53051B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0C12-82EC-4063-855F-42DEA4BBEA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EEBE-5FCF-4766-9041-D6F71EFBD0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8435-2F05-4012-91C8-D2DB46E56E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0753-BBB9-4582-B0AA-80BF22F186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FDA9-D1AC-48C9-B6B5-0D937CC7AF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F72D-CC7F-460D-A44E-5775171241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C89A-1E64-446C-9E0F-3E425A2383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3BBD-2D48-4815-8051-0ABDEC6E0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58BC-5252-4D1C-A083-BE649B5F4A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3BCC-4E9B-479D-B98E-206202DA58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45FB-A056-4B1F-B35C-C246D823E5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5367-D2C8-4D6C-87AD-DC16F6F2C6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0E1A-87CC-41FE-BE7B-738AD42ACC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0414-761B-48DC-99A8-A3974EEC35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CF50-36F5-433C-B8D7-050AACA473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765E-D2D7-4059-9094-A259727E9E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40CC-15ED-48A1-9264-A8C22C8E91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264A-0667-4892-9E47-F911239A94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BB14-CD45-443A-A2D8-E12E762F79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57E3-21AF-4948-84D7-AFF0DEB5FE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390760" y="3062160"/>
            <a:ext cx="43624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96200" cy="5543640"/>
          </a:xfrm>
          <a:prstGeom prst="rect">
            <a:avLst/>
          </a:prstGeom>
          <a:ln w="0">
            <a:noFill/>
          </a:ln>
        </p:spPr>
      </p:pic>
      <p:sp>
        <p:nvSpPr>
          <p:cNvPr id="1071" name="矩形 2"/>
          <p:cNvSpPr/>
          <p:nvPr/>
        </p:nvSpPr>
        <p:spPr>
          <a:xfrm>
            <a:off x="1357200" y="1617840"/>
            <a:ext cx="6429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3"/>
          <p:cNvSpPr/>
          <p:nvPr/>
        </p:nvSpPr>
        <p:spPr>
          <a:xfrm>
            <a:off x="2511360" y="1617840"/>
            <a:ext cx="92880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4"/>
          <p:cNvSpPr/>
          <p:nvPr/>
        </p:nvSpPr>
        <p:spPr>
          <a:xfrm>
            <a:off x="2500200" y="2857680"/>
            <a:ext cx="6429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5"/>
          <p:cNvSpPr/>
          <p:nvPr/>
        </p:nvSpPr>
        <p:spPr>
          <a:xfrm>
            <a:off x="3714840" y="2857680"/>
            <a:ext cx="14288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6"/>
          <p:cNvSpPr/>
          <p:nvPr/>
        </p:nvSpPr>
        <p:spPr>
          <a:xfrm>
            <a:off x="5715000" y="2857680"/>
            <a:ext cx="6429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7"/>
          <p:cNvSpPr/>
          <p:nvPr/>
        </p:nvSpPr>
        <p:spPr>
          <a:xfrm>
            <a:off x="2214720" y="3714840"/>
            <a:ext cx="6429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8"/>
          <p:cNvSpPr/>
          <p:nvPr/>
        </p:nvSpPr>
        <p:spPr>
          <a:xfrm>
            <a:off x="3440160" y="3689280"/>
            <a:ext cx="98892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9"/>
          <p:cNvSpPr/>
          <p:nvPr/>
        </p:nvSpPr>
        <p:spPr>
          <a:xfrm>
            <a:off x="1285920" y="4500720"/>
            <a:ext cx="114300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10"/>
          <p:cNvSpPr/>
          <p:nvPr/>
        </p:nvSpPr>
        <p:spPr>
          <a:xfrm>
            <a:off x="2714760" y="4500720"/>
            <a:ext cx="100008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11"/>
          <p:cNvSpPr/>
          <p:nvPr/>
        </p:nvSpPr>
        <p:spPr>
          <a:xfrm>
            <a:off x="6072120" y="4500720"/>
            <a:ext cx="6429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12"/>
          <p:cNvSpPr/>
          <p:nvPr/>
        </p:nvSpPr>
        <p:spPr>
          <a:xfrm>
            <a:off x="1143000" y="5786280"/>
            <a:ext cx="107172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13"/>
          <p:cNvSpPr/>
          <p:nvPr/>
        </p:nvSpPr>
        <p:spPr>
          <a:xfrm>
            <a:off x="2928960" y="5786280"/>
            <a:ext cx="64296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61880" y="909720"/>
            <a:ext cx="8220240" cy="50385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2000160" y="2786040"/>
            <a:ext cx="6429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3286080" y="2786040"/>
            <a:ext cx="85716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7435800" y="2749680"/>
            <a:ext cx="9939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1200240" y="3154320"/>
            <a:ext cx="122868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1643040" y="4429080"/>
            <a:ext cx="185724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4714920" y="4429080"/>
            <a:ext cx="64296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"/>
          <p:cNvSpPr/>
          <p:nvPr/>
        </p:nvSpPr>
        <p:spPr>
          <a:xfrm>
            <a:off x="2249640" y="5249880"/>
            <a:ext cx="1228680" cy="315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9"/>
          <p:cNvSpPr/>
          <p:nvPr/>
        </p:nvSpPr>
        <p:spPr>
          <a:xfrm>
            <a:off x="4214880" y="5214960"/>
            <a:ext cx="8618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0"/>
          <p:cNvSpPr/>
          <p:nvPr/>
        </p:nvSpPr>
        <p:spPr>
          <a:xfrm>
            <a:off x="5572080" y="5214960"/>
            <a:ext cx="6429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461880" y="895320"/>
            <a:ext cx="8220240" cy="5067360"/>
          </a:xfrm>
          <a:prstGeom prst="rect">
            <a:avLst/>
          </a:prstGeom>
          <a:ln w="0">
            <a:noFill/>
          </a:ln>
        </p:spPr>
      </p:pic>
      <p:sp>
        <p:nvSpPr>
          <p:cNvPr id="1034" name="矩形 2"/>
          <p:cNvSpPr/>
          <p:nvPr/>
        </p:nvSpPr>
        <p:spPr>
          <a:xfrm>
            <a:off x="1571760" y="1820880"/>
            <a:ext cx="20001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3"/>
          <p:cNvSpPr/>
          <p:nvPr/>
        </p:nvSpPr>
        <p:spPr>
          <a:xfrm>
            <a:off x="2286000" y="2643120"/>
            <a:ext cx="114300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4"/>
          <p:cNvSpPr/>
          <p:nvPr/>
        </p:nvSpPr>
        <p:spPr>
          <a:xfrm>
            <a:off x="3643200" y="2643120"/>
            <a:ext cx="108612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5"/>
          <p:cNvSpPr/>
          <p:nvPr/>
        </p:nvSpPr>
        <p:spPr>
          <a:xfrm>
            <a:off x="5357880" y="2643120"/>
            <a:ext cx="108576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6"/>
          <p:cNvSpPr/>
          <p:nvPr/>
        </p:nvSpPr>
        <p:spPr>
          <a:xfrm>
            <a:off x="1685880" y="3914640"/>
            <a:ext cx="164304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7"/>
          <p:cNvSpPr/>
          <p:nvPr/>
        </p:nvSpPr>
        <p:spPr>
          <a:xfrm>
            <a:off x="4629240" y="3903840"/>
            <a:ext cx="108576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"/>
          <p:cNvSpPr/>
          <p:nvPr/>
        </p:nvSpPr>
        <p:spPr>
          <a:xfrm>
            <a:off x="6143760" y="3857760"/>
            <a:ext cx="79992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9"/>
          <p:cNvSpPr/>
          <p:nvPr/>
        </p:nvSpPr>
        <p:spPr>
          <a:xfrm>
            <a:off x="1571760" y="4714920"/>
            <a:ext cx="10857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0"/>
          <p:cNvSpPr/>
          <p:nvPr/>
        </p:nvSpPr>
        <p:spPr>
          <a:xfrm>
            <a:off x="1785960" y="5572080"/>
            <a:ext cx="108576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11"/>
          <p:cNvSpPr/>
          <p:nvPr/>
        </p:nvSpPr>
        <p:spPr>
          <a:xfrm>
            <a:off x="3357720" y="5572080"/>
            <a:ext cx="73800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414360" y="709560"/>
            <a:ext cx="83152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452520" y="690480"/>
            <a:ext cx="8238960" cy="547704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928800" y="2071800"/>
            <a:ext cx="50004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857160" y="4143240"/>
            <a:ext cx="50004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277120" cy="914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" descr=""/>
          <p:cNvPicPr/>
          <p:nvPr/>
        </p:nvPicPr>
        <p:blipFill>
          <a:blip r:embed="rId2"/>
          <a:stretch/>
        </p:blipFill>
        <p:spPr>
          <a:xfrm>
            <a:off x="714240" y="2000160"/>
            <a:ext cx="8087040" cy="4162680"/>
          </a:xfrm>
          <a:prstGeom prst="rect">
            <a:avLst/>
          </a:prstGeom>
          <a:ln w="0">
            <a:noFill/>
          </a:ln>
        </p:spPr>
      </p:pic>
      <p:sp>
        <p:nvSpPr>
          <p:cNvPr id="1050" name="矩形 3"/>
          <p:cNvSpPr/>
          <p:nvPr/>
        </p:nvSpPr>
        <p:spPr>
          <a:xfrm>
            <a:off x="928800" y="1143000"/>
            <a:ext cx="5000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1000080" y="4143240"/>
            <a:ext cx="50004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500040" y="1380960"/>
            <a:ext cx="8143920" cy="4096080"/>
          </a:xfrm>
          <a:prstGeom prst="rect">
            <a:avLst/>
          </a:prstGeom>
          <a:ln w="0">
            <a:noFill/>
          </a:ln>
        </p:spPr>
      </p:pic>
      <p:sp>
        <p:nvSpPr>
          <p:cNvPr id="1053" name="矩形 2"/>
          <p:cNvSpPr/>
          <p:nvPr/>
        </p:nvSpPr>
        <p:spPr>
          <a:xfrm>
            <a:off x="857160" y="1428840"/>
            <a:ext cx="5000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3"/>
          <p:cNvSpPr/>
          <p:nvPr/>
        </p:nvSpPr>
        <p:spPr>
          <a:xfrm>
            <a:off x="785880" y="3857760"/>
            <a:ext cx="5000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452520" y="2004840"/>
            <a:ext cx="8238960" cy="284832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857160" y="2071800"/>
            <a:ext cx="5000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191440" cy="543888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"/>
          <p:cNvSpPr/>
          <p:nvPr/>
        </p:nvSpPr>
        <p:spPr>
          <a:xfrm>
            <a:off x="1857240" y="1714680"/>
            <a:ext cx="92880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3571920" y="1714680"/>
            <a:ext cx="5000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4"/>
          <p:cNvSpPr/>
          <p:nvPr/>
        </p:nvSpPr>
        <p:spPr>
          <a:xfrm>
            <a:off x="2428920" y="3357720"/>
            <a:ext cx="5000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5"/>
          <p:cNvSpPr/>
          <p:nvPr/>
        </p:nvSpPr>
        <p:spPr>
          <a:xfrm>
            <a:off x="3571920" y="3357720"/>
            <a:ext cx="15717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6"/>
          <p:cNvSpPr/>
          <p:nvPr/>
        </p:nvSpPr>
        <p:spPr>
          <a:xfrm>
            <a:off x="5786280" y="3357720"/>
            <a:ext cx="50040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"/>
          <p:cNvSpPr/>
          <p:nvPr/>
        </p:nvSpPr>
        <p:spPr>
          <a:xfrm>
            <a:off x="1785960" y="4165560"/>
            <a:ext cx="102564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8"/>
          <p:cNvSpPr/>
          <p:nvPr/>
        </p:nvSpPr>
        <p:spPr>
          <a:xfrm>
            <a:off x="3429000" y="4211640"/>
            <a:ext cx="92880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9"/>
          <p:cNvSpPr/>
          <p:nvPr/>
        </p:nvSpPr>
        <p:spPr>
          <a:xfrm>
            <a:off x="1357200" y="5000760"/>
            <a:ext cx="71460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10"/>
          <p:cNvSpPr/>
          <p:nvPr/>
        </p:nvSpPr>
        <p:spPr>
          <a:xfrm>
            <a:off x="2500200" y="5000760"/>
            <a:ext cx="5000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11"/>
          <p:cNvSpPr/>
          <p:nvPr/>
        </p:nvSpPr>
        <p:spPr>
          <a:xfrm>
            <a:off x="3643200" y="5000760"/>
            <a:ext cx="71460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12"/>
          <p:cNvSpPr/>
          <p:nvPr/>
        </p:nvSpPr>
        <p:spPr>
          <a:xfrm>
            <a:off x="2071800" y="5857920"/>
            <a:ext cx="9284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13"/>
          <p:cNvSpPr/>
          <p:nvPr/>
        </p:nvSpPr>
        <p:spPr>
          <a:xfrm>
            <a:off x="3714840" y="5857920"/>
            <a:ext cx="6429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9:5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